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567-9228-4F1D-B291-76F558B9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9B8-8B93-4A26-9782-A081BEF5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EFAA-7DB6-46E1-A70E-D38DE9845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F56-CBC1-4F27-A3D4-DEA0C0F9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6AD-11CF-4BD6-B3FB-6F009B1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EEBE-1739-45E7-B98E-0A3FA27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02CA-ADEC-49CA-B0F8-C4B09127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8CA4-5985-4516-85DC-B053D1C7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4DE1-1675-4109-800E-82978494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DFC-5932-4B23-91D9-0D2926BD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A96-8D67-45CC-B5F0-4D7CC4D1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F2B-8DAD-469C-A087-E7F61CE8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B798-CFAD-4A9B-8983-B9DACC13F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e 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pond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ar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col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udete il li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te il lib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ete le 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p your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det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zate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e una do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a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00:41:09Z</dcterms:created>
  <dc:creator>Home</dc:creator>
  <dc:description/>
  <dc:language>en-US</dc:language>
  <cp:lastModifiedBy>Valeria Palladino</cp:lastModifiedBy>
  <dcterms:modified xsi:type="dcterms:W3CDTF">2010-01-10T23:43:28Z</dcterms:modified>
  <cp:revision>2</cp:revision>
  <dc:subject/>
  <dc:title>Fate attenzione</dc:title>
</cp:coreProperties>
</file>